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8DC-5249-45D2-88B1-5ADE282A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3CE-A7AD-451A-A7F8-1143E63C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756-F285-4495-B4FA-80D6E43B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054-0411-4C59-AA55-DC8FF2B7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041-3BB6-478B-B843-74A1A9CF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0B6-1D42-4BED-84CD-281B8237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D7D-33B9-4AAF-A543-7FE39CC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853-C4E9-4982-A85B-36119F4B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93D0-CEDC-4C31-8276-432E6E9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F07-091D-4EA6-8B38-7B1B66E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8BE-4553-4091-B606-CC78FDEF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50C-F94B-4363-B002-717250D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F418-A808-4D5C-9EC6-943FAF98A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com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ing the Results of Operating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between Balance Sheet an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l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Accounting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ome statement measures the performance of the firm for some particular period of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income = Revenues minus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s measures the net assets that flow into a firm when it sells goods or renders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nses are the uses of assets in the process of generating reven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counting year could be the same as the calendar year or it could be different from it, but it must cover 12 mon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hly or quarterly statements are calle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im re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9:19:11Z</dcterms:created>
  <dc:creator>ME</dc:creator>
  <dc:description/>
  <dc:language>en-US</dc:language>
  <cp:lastModifiedBy>ME</cp:lastModifiedBy>
  <dcterms:modified xsi:type="dcterms:W3CDTF">2004-09-04T12:05:25Z</dcterms:modified>
  <cp:revision>5</cp:revision>
  <dc:subject/>
  <dc:title>Income Statement</dc:title>
</cp:coreProperties>
</file>